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35276"/>
        <c:axId val="90548058"/>
      </c:barChart>
      <c:catAx>
        <c:axId val="70935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48058"/>
        <c:crosses val="autoZero"/>
        <c:auto val="1"/>
        <c:lblAlgn val="ctr"/>
        <c:lblOffset val="100"/>
        <c:noMultiLvlLbl val="0"/>
      </c:catAx>
      <c:valAx>
        <c:axId val="90548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5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AC1-B9F2-49D2-A8EE-D029A238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E06-ACEC-4BAA-AA62-5B0420B7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9F0-E797-4B6F-B779-D9A590D7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7EA-16C4-4BA5-832E-83CAAC57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029-9E8F-4563-B08D-164173BA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C7C-88E5-4157-8372-CAAC07CA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0B9-CD5C-47E8-A0DF-BDADD05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D74-38CA-4CC6-8074-74DB7F66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6BD-9445-474A-828F-1DB9781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64D-A612-434D-8BA3-A725461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21B-5D9C-45F7-9833-3655572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4FB-9F40-44A9-9485-A2A8A038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C2926-1518-49D0-BC9B-A9AE13AED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