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89870"/>
        <c:axId val="52845564"/>
      </c:barChart>
      <c:catAx>
        <c:axId val="20589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45564"/>
        <c:crosses val="autoZero"/>
        <c:auto val="1"/>
        <c:lblAlgn val="ctr"/>
        <c:lblOffset val="100"/>
        <c:noMultiLvlLbl val="0"/>
      </c:catAx>
      <c:valAx>
        <c:axId val="528455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89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E580-579A-4552-9B78-B5BED6E6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66B-F59A-48C4-BD5B-91CDC1C7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BCE-E242-49A3-A439-D381D65C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B35-278D-41E8-909B-3FA95A8F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AA4-A336-4FFB-8D89-B73C30E6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8E5-0644-402F-A6F7-C4528AEE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DF8-C77E-4701-BEFE-DA370A69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8A0-D81E-4E9B-BE85-36DC039E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4C1-F774-48B1-AD2D-27C3DDED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FAA-DA30-4FA4-AD00-89BCA558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F29-4754-4BF0-88E5-A8F0AE37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F11-2838-4492-9A83-5FC20C09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95502-AC34-447E-BA6F-A273CFD240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