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622149"/>
        <c:axId val="16369630"/>
      </c:barChart>
      <c:catAx>
        <c:axId val="976221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369630"/>
        <c:crosses val="autoZero"/>
        <c:auto val="1"/>
        <c:lblAlgn val="ctr"/>
        <c:lblOffset val="100"/>
        <c:noMultiLvlLbl val="0"/>
      </c:catAx>
      <c:valAx>
        <c:axId val="163696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221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2750-19ED-49CA-AF7C-B9AF02398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5F0C-F17D-4FFA-9C33-9BA62C40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2F55-B919-41D3-9359-EB02D5781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BF3B-03F0-45ED-8C15-97D22958D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31D6-575F-4641-87AE-516181C1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045F-4D66-41C5-8499-2860EB70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B6CC-6F49-4E8C-8C27-DFA0F53C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B710-388D-4B38-9342-28104842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168B-84E7-4845-AAAA-D4364579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D22A-DF7A-4AE5-81A3-16417985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5E30-9331-48C8-A464-25E810A6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B6D5-6F9E-40CE-8E0A-6E5BEFE5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F788C-44AC-4AE8-81F6-193E9E0F5F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