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461060"/>
        <c:axId val="90247212"/>
      </c:barChart>
      <c:catAx>
        <c:axId val="334610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247212"/>
        <c:crosses val="autoZero"/>
        <c:auto val="1"/>
        <c:lblAlgn val="ctr"/>
        <c:lblOffset val="100"/>
        <c:noMultiLvlLbl val="0"/>
      </c:catAx>
      <c:valAx>
        <c:axId val="902472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4610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F8C5-22D1-4A08-B89B-2C4F41921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2E68-5B6F-4827-A161-F533E3D35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C8DD-3ABA-4318-A983-0C3DC2F2B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03F0-637B-4185-AA53-A2B7D19E4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33D4-04FB-4A2E-B53E-A4CDCD61A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070A-D546-48BB-B0E5-B4202811E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D564-1ADB-450C-9C0E-7B19A39FC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8AD7-C6CA-4BB4-8423-D0C089FD4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3082-49FC-480F-BC9E-E65AB29D7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33BE-26F9-479B-B622-ECCD00F7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05AD-EDBB-45D9-A5A6-A5C04CB3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FE00-68CD-4BB9-96EC-D093E471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D432C6-D3E1-4026-9393-45C6B68A748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