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71227"/>
        <c:axId val="7065245"/>
      </c:barChart>
      <c:catAx>
        <c:axId val="45671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5245"/>
        <c:crosses val="autoZero"/>
        <c:auto val="1"/>
        <c:lblAlgn val="ctr"/>
        <c:lblOffset val="100"/>
        <c:noMultiLvlLbl val="0"/>
      </c:catAx>
      <c:valAx>
        <c:axId val="7065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1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D7B-BEC2-4E1A-BBAC-944F3EFE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542-B635-48E0-84A9-D2B6FD0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6B8-6D2D-47F9-9B84-DD39EC96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0E4-A782-4A8B-8567-4844B7AF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FA3-3526-4A57-8662-DFFB3912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5B6-E451-4115-8D32-2BF41555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723-A1AF-4329-AA2F-99336293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2A4-8092-4C4B-9BCE-9D920CB0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718-633B-4D05-94D9-57850E21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8B4-94C1-4030-BB45-941A06A0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B52-BB59-4302-B597-433FE30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069-D44F-48D1-B36E-4900EA4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B7F0F-A54E-40EA-8F57-CE9771B84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