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85763"/>
        <c:axId val="84251600"/>
      </c:barChart>
      <c:catAx>
        <c:axId val="93285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51600"/>
        <c:crosses val="autoZero"/>
        <c:auto val="1"/>
        <c:lblAlgn val="ctr"/>
        <c:lblOffset val="100"/>
        <c:noMultiLvlLbl val="0"/>
      </c:catAx>
      <c:valAx>
        <c:axId val="84251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85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953-0931-4B30-893B-BCD0DD35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D01-5C23-4ECD-A408-6709623A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E2D-FD88-47E7-AEAC-21CF7E06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12B-1F26-40D0-A635-0E676C6C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112-CEE9-4FAD-9AFA-074DB498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F6A-5BA7-4DDD-99F3-93BED4D2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D6E-60E6-44C1-8C9E-9B266513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65E-08A6-4517-9D16-FFCA733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18A-E966-458C-832D-32E4092A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EB8-35AC-4A6B-A68E-06467FD3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69C-7609-4EF2-9230-AB4C0E0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642-8873-4451-8D8D-9BC2561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A4EA5-7096-494A-AE2A-9A12BEC903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