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48012"/>
        <c:axId val="19698428"/>
      </c:barChart>
      <c:catAx>
        <c:axId val="88048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8428"/>
        <c:crosses val="autoZero"/>
        <c:auto val="1"/>
        <c:lblAlgn val="ctr"/>
        <c:lblOffset val="100"/>
        <c:noMultiLvlLbl val="0"/>
      </c:catAx>
      <c:valAx>
        <c:axId val="19698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8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48A-3D97-4C49-B586-0CE46448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0C4-223F-4DA5-A1DE-0190229C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A34-988C-4164-BD05-E69BE746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384-75B4-4FA4-8950-941FC3D2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29E-41B2-4177-9517-0DBB58B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776-2CA4-40F6-9F6F-A5E75AFC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729-0D9B-41FF-B613-125539DE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542-33FC-47E2-9697-5E1C6BB6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89C-BCE8-44D2-93B7-DB77783F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DA4-46B4-4EE7-9EC3-903B73B1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ABA-AD60-4B8C-9D1D-4C9A9AD2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FAF-1D71-4E4B-8E8D-8342C61C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436CA-9AF8-4F18-B3A7-2DBF7CA9B6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