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46893"/>
        <c:axId val="39922079"/>
      </c:barChart>
      <c:catAx>
        <c:axId val="72646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22079"/>
        <c:crosses val="autoZero"/>
        <c:auto val="1"/>
        <c:lblAlgn val="ctr"/>
        <c:lblOffset val="100"/>
        <c:noMultiLvlLbl val="0"/>
      </c:catAx>
      <c:valAx>
        <c:axId val="39922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46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767-0C15-4F20-B6E3-7D302A12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6FF-4C91-4005-AA53-8C9B4910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FBF-04B0-4183-A9D7-65171588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7A9-514B-44C6-BD4F-7491A924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785-24ED-4164-9108-16149E4D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649-0A4B-43FF-9667-1D670450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477-DB6B-48E8-9D5C-7896EC8A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1CB-B3C2-4DA5-8BA8-F62B9C6B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138-BC0D-4A8E-94B3-68A9F98E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7D6-AD03-4681-A80F-F3EAFA5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B2C-AE92-4F8B-A14B-0E2E7C5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B43-6C4C-45CC-AB99-147CC3E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06CA6-06A8-47A7-999E-925F7CF939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