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63396"/>
        <c:axId val="75158624"/>
      </c:barChart>
      <c:catAx>
        <c:axId val="52563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58624"/>
        <c:crosses val="autoZero"/>
        <c:auto val="1"/>
        <c:lblAlgn val="ctr"/>
        <c:lblOffset val="100"/>
        <c:noMultiLvlLbl val="0"/>
      </c:catAx>
      <c:valAx>
        <c:axId val="75158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63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927-3A10-4B36-A68E-A262609E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132-EC9E-4C80-A63B-78FB637B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93E-BEA2-46A6-87DF-00256DB1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C73-AC46-4B91-B57D-AA52CA06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AA1-F7F8-4F32-A517-7451A437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81A-75C7-43BA-B4A7-98B19498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858-61EE-4703-A5CF-E97E8601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345-4CDA-40DE-90F8-0D719718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D9F-8B19-4766-A68C-BA12E541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F16-AF2A-48E0-BFAE-241EC897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F13-426F-4CBF-9F15-BD6E2685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06F-C932-48C5-952E-395FF5ED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2CA1B-488E-4DBA-98C3-1B4187A863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