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333999"/>
        <c:axId val="61621151"/>
      </c:barChart>
      <c:catAx>
        <c:axId val="853339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21151"/>
        <c:crosses val="autoZero"/>
        <c:auto val="1"/>
        <c:lblAlgn val="ctr"/>
        <c:lblOffset val="100"/>
        <c:noMultiLvlLbl val="0"/>
      </c:catAx>
      <c:valAx>
        <c:axId val="616211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339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5D4A-CA1F-44DC-8A12-C9C001DF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D1AE-08FB-4A06-BC79-1ADDDD65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0046-F29C-4568-A274-3E571887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18A1-2EDB-42B4-B194-0EF8E514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2CF6-80BD-4CAC-A2E9-1A9BF5C4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5617-3ABC-4028-88D8-90DE63FB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71B6-E51B-48A8-AD81-707E001E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F91D-014C-455F-BBB2-9E8D2FA1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103A-524B-48A2-8376-493ABE53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EB4C-C5B5-4418-B621-C3AB2D6A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E264-45E4-4173-9520-6EA90E7A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A59F-0848-4148-BCDE-00567C58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4A38B-8D22-4A73-A2F4-5C5B378F1D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