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27068"/>
        <c:axId val="28043124"/>
      </c:barChart>
      <c:catAx>
        <c:axId val="581270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43124"/>
        <c:crosses val="autoZero"/>
        <c:auto val="1"/>
        <c:lblAlgn val="ctr"/>
        <c:lblOffset val="100"/>
        <c:noMultiLvlLbl val="0"/>
      </c:catAx>
      <c:valAx>
        <c:axId val="28043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270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6C4-CAF1-42D7-A101-FA0D989F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E6F3-C16C-459A-B5CF-EE4CE96E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F253-1682-4D58-9EDD-F4E29961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3CDA-8C18-4C08-9900-E8FAFD8F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D3B0-ED4C-432B-A392-90A8CC99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5E29-94CB-4A9E-8B45-24AB7350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BF1-5D03-4AE6-9FA3-F551FE28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D84-D6E5-4E63-9839-854C56BE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856-09F4-487B-AFFE-2C85CC2B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BCC-AA26-4509-9A09-BB09C0B9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347-5ECF-4CAC-B935-72AE245F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187-D9BF-432F-8F8C-CC5A3F61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A32FE-D76B-489F-828C-90558C261B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