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88969"/>
        <c:axId val="32333885"/>
      </c:barChart>
      <c:catAx>
        <c:axId val="58888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3885"/>
        <c:crosses val="autoZero"/>
        <c:auto val="1"/>
        <c:lblAlgn val="ctr"/>
        <c:lblOffset val="100"/>
        <c:noMultiLvlLbl val="0"/>
      </c:catAx>
      <c:valAx>
        <c:axId val="32333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8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38B-20A4-48FB-B45D-1715F740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838-CEC5-4BAC-A73A-90D596FB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DF0-CE22-4064-B3A0-C7DF61EE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281-B710-467C-AC39-281E8241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F4B-E2D7-4749-A87F-C68950CE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5AF-D3A6-4D9F-B6D3-EFF0817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FB4-8614-4AC7-83ED-327ECFC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172-8C90-4D97-A65E-8B56DD93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A06-8A89-4240-9A87-81531D3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DD5-D0E7-4AF0-9519-1CC7BBC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C33-06B1-4829-9593-A568E704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CDF-F145-40A3-832F-5DFA492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B18FB-FFEC-4D0E-93F4-8ABAA240F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