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03839"/>
        <c:axId val="29593603"/>
      </c:barChart>
      <c:catAx>
        <c:axId val="20303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93603"/>
        <c:crosses val="autoZero"/>
        <c:auto val="1"/>
        <c:lblAlgn val="ctr"/>
        <c:lblOffset val="100"/>
        <c:noMultiLvlLbl val="0"/>
      </c:catAx>
      <c:valAx>
        <c:axId val="29593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03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C03-F3D9-4355-A0F0-449362EF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B5C-CF78-46EF-A230-7E427533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7647-801D-454B-B6B1-E02199FA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715-E61B-4654-B4AB-AA1C1DA2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A1B-411A-4FBD-BFAA-03275430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C21-C43E-4864-AF0C-54F3DBDC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200-FA43-42E7-BE58-ED5F3DBB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CFE-4145-4649-A334-2424FA1B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A42-F9F8-423E-A8CF-C5B51BE1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4B3-3E62-4B96-BEB2-ED660D91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680-85D1-4410-8493-A6274EDE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8BE-EF97-4B07-9C91-45DE8AAB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E1DB4-C3D8-417D-9319-98E0362B74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