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02241"/>
        <c:axId val="99725466"/>
      </c:barChart>
      <c:catAx>
        <c:axId val="56802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25466"/>
        <c:crosses val="autoZero"/>
        <c:auto val="1"/>
        <c:lblAlgn val="ctr"/>
        <c:lblOffset val="100"/>
        <c:noMultiLvlLbl val="0"/>
      </c:catAx>
      <c:valAx>
        <c:axId val="99725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02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431-4775-4A18-A147-CC3C6565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34CE-1A86-4A97-B02F-3D2288E2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7007-EAB1-41EB-BA0C-73D402D3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9CF-8FBA-4EA5-8D81-D143C29C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01C-759C-49E6-ACE0-17B87621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E43-EBFF-4A77-80DF-26BB34CD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235-ECE3-40EB-96EC-7E1B3707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F3C-98CC-4D76-A2E2-345AED3E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ECA-700F-441B-BD1D-066CCE9B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3D6-DEFC-41E9-AC7D-380BF815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2B3-138B-4A01-A4ED-2A8C9A10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E4C-89C8-4BDE-A890-41D1441E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D7CB2-7A39-4B61-B64D-2F74485D4D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