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346421"/>
        <c:axId val="61309038"/>
      </c:barChart>
      <c:catAx>
        <c:axId val="793464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09038"/>
        <c:crosses val="autoZero"/>
        <c:auto val="1"/>
        <c:lblAlgn val="ctr"/>
        <c:lblOffset val="100"/>
        <c:noMultiLvlLbl val="0"/>
      </c:catAx>
      <c:valAx>
        <c:axId val="613090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464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3A3C-47D0-4E5B-B790-FD52F544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9915-E25B-459A-92BC-CB42E90A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ECF7-1A0F-4C42-ADAA-CE4B4978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E885-232D-44F8-BF2C-A5247764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D84D-E3EA-4521-9E02-00952AA5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2906-C9F4-45D8-AC15-DB0A8E15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6CB8-BE2F-41C6-B4A7-E165C6CD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5F75-507A-4E36-8F06-50BBD2D8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DC67-4380-4460-AF28-9562E058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9AD8-8D0B-4FCB-925C-EC509041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7A46-2B71-43F8-8253-88AA9462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935-5306-4833-85AC-BEE22C87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7DF96-18DD-44F5-96AD-B3395493D7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