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57544"/>
        <c:axId val="16350514"/>
      </c:barChart>
      <c:catAx>
        <c:axId val="62757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50514"/>
        <c:crosses val="autoZero"/>
        <c:auto val="1"/>
        <c:lblAlgn val="ctr"/>
        <c:lblOffset val="100"/>
        <c:noMultiLvlLbl val="0"/>
      </c:catAx>
      <c:valAx>
        <c:axId val="16350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57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285-9DE7-4D4E-9FEB-1825C23C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EED-FAFC-4B59-845F-FB098DE0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7C9-1535-4E09-8273-9507634A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21C-440C-493A-865F-EFDC827B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7B9-C5C2-45AC-910D-6F298EC8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24C-7F80-47C6-919D-9A6E37B2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AB3-8773-41D1-A3E3-86CF79FA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F93-ACDD-408D-A109-AC76376B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A3F-B643-48CC-AFBE-E90938F1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091-0492-4167-8077-B73D2B96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AFF-2C12-4C51-A77B-02DA3DA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511-FB81-4119-9A3A-F6F922D0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7AE76-6E5F-4FA6-9DFE-00D0753EE5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