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532351"/>
        <c:axId val="60385850"/>
      </c:barChart>
      <c:catAx>
        <c:axId val="835323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85850"/>
        <c:crosses val="autoZero"/>
        <c:auto val="1"/>
        <c:lblAlgn val="ctr"/>
        <c:lblOffset val="100"/>
        <c:noMultiLvlLbl val="0"/>
      </c:catAx>
      <c:valAx>
        <c:axId val="603858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323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AB9C-C422-4659-B77E-E431BDF5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6BF3-B52F-4237-9132-6422D5CE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B386-414A-41D2-9EBB-68A242B4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138A-B352-4C24-8D23-EEEB7DED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740F-46B7-4F17-AD84-DA73456D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63D4-355C-44D5-A7D8-E0597C30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936C-9DAB-433E-B06D-ED727298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F5B4-3A25-4E2F-A913-04898105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F4E6-66DD-4333-82F8-FC152F3E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00DA-376F-4F93-A854-B9EEEF69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62E6-5697-452D-9E97-AA6D55FA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CBC9-D6F6-4F2C-A71A-6757CE28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E4884-608C-4D65-A1CD-221F84A4F6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